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10.jpeg" ContentType="image/jpeg"/>
  <Override PartName="/ppt/media/image28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33.png" ContentType="image/png"/>
  <Override PartName="/ppt/media/image14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0.jpeg" ContentType="image/jpeg"/>
  <Override PartName="/ppt/media/image5.png" ContentType="image/png"/>
  <Override PartName="/ppt/media/image43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74E0-7E91-49D3-8FCF-1DF0DE6C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241-43F8-45C9-A9CA-38FDA3CA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F6B-9B8E-45BD-B8BD-A3DB9F41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D97-487E-4BAF-BABB-F651936B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AD6C-C50C-4011-A7B6-07A143EF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1DF-B2B8-4073-8ED4-D960EE09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0D8-874C-4016-BA0F-4988B8C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F9F-3FB4-440E-B8C9-50AEE8C9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3430-26B0-4075-BED1-FBF3CFDB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C68-DED1-4BCC-BBBC-1F8A60AC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51D-57B8-45AF-BCC6-4FC6B76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659-85A9-43BC-9DFF-26570E6A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700A-B335-430C-A078-098A0FA4A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corn.com/index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alesis.com/index.php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atlassound.com/index.cfm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audiosource.net/2005/index.html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hyperlink" Target="http://www.bostonacoustics.com/default.aspx" TargetMode="External"/><Relationship Id="rId12" Type="http://schemas.openxmlformats.org/officeDocument/2006/relationships/image" Target="../media/image16.png"/><Relationship Id="rId13" Type="http://schemas.openxmlformats.org/officeDocument/2006/relationships/hyperlink" Target="http://www.channelvision.com/index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mailto:jnelson@cedia.org?subject=CEDIA%20Member%20Concierge%20Service" TargetMode="External"/><Relationship Id="rId16" Type="http://schemas.openxmlformats.org/officeDocument/2006/relationships/image" Target="../media/image18.jpeg"/><Relationship Id="rId17" Type="http://schemas.openxmlformats.org/officeDocument/2006/relationships/hyperlink" Target="http://www.citrix.com/lang/English/home.asp" TargetMode="External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nergy-speakers.com/v2/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www.electrovoice.com/index.php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hyperlink" Target="http://www.monacor.com/int/en/gesamtprogramm.php?spr=EN&amp;brand=MI" TargetMode="External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jpeg"/><Relationship Id="rId13" Type="http://schemas.openxmlformats.org/officeDocument/2006/relationships/hyperlink" Target="http://www.numark.com/" TargetMode="External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hyperlink" Target="http://www.toachina.com.cn/index.asp" TargetMode="External"/><Relationship Id="rId5" Type="http://schemas.openxmlformats.org/officeDocument/2006/relationships/image" Target="../media/image39.jpeg"/><Relationship Id="rId6" Type="http://schemas.openxmlformats.org/officeDocument/2006/relationships/hyperlink" Target="http://www.visaton.com/en/index.html" TargetMode="External"/><Relationship Id="rId7" Type="http://schemas.openxmlformats.org/officeDocument/2006/relationships/image" Target="../media/image40.png"/><Relationship Id="rId8" Type="http://schemas.openxmlformats.org/officeDocument/2006/relationships/hyperlink" Target="http://www.vietapro.com/site/index.php" TargetMode="External"/><Relationship Id="rId9" Type="http://schemas.openxmlformats.org/officeDocument/2006/relationships/image" Target="../media/image41.png"/><Relationship Id="rId10" Type="http://schemas.openxmlformats.org/officeDocument/2006/relationships/hyperlink" Target="http://www.vodavi.com/default.asp" TargetMode="External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0"/>
            <a:ext cx="3200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我们比较喜欢的字体和图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We prefer the font and ic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3581280"/>
            <a:ext cx="2152440" cy="87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142884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7920" y="4876920"/>
            <a:ext cx="1704960" cy="55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295280" y="99072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467480" y="228600"/>
            <a:ext cx="1428840" cy="590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809880" y="5029200"/>
            <a:ext cx="31435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029200" y="990720"/>
            <a:ext cx="1371600" cy="111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蓝色快车"/>
          <p:cNvPicPr/>
          <p:nvPr/>
        </p:nvPicPr>
        <p:blipFill>
          <a:blip r:embed="rId9"/>
          <a:stretch/>
        </p:blipFill>
        <p:spPr>
          <a:xfrm>
            <a:off x="5029200" y="2590920"/>
            <a:ext cx="1428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43080"/>
            <a:ext cx="117144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58112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AtlasSound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35360"/>
            <a:ext cx="1981080" cy="74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43440"/>
            <a:ext cx="2028960" cy="123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2133720" y="1600200"/>
            <a:ext cx="335268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533760" y="4229280"/>
            <a:ext cx="187632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5486400"/>
            <a:ext cx="1228680" cy="58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hannel Vision Technolog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15000" y="1752480"/>
            <a:ext cx="32004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2819520"/>
            <a:ext cx="1904760" cy="188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Citrix Logo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05680" y="5092560"/>
            <a:ext cx="1504800" cy="100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Real Image"/>
          <p:cNvPicPr/>
          <p:nvPr/>
        </p:nvPicPr>
        <p:blipFill>
          <a:blip r:embed="rId19"/>
          <a:stretch/>
        </p:blipFill>
        <p:spPr>
          <a:xfrm>
            <a:off x="3352680" y="2895480"/>
            <a:ext cx="19814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304920" y="5562720"/>
            <a:ext cx="2314440" cy="55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1"/>
          <a:stretch/>
        </p:blipFill>
        <p:spPr>
          <a:xfrm>
            <a:off x="5029200" y="5410080"/>
            <a:ext cx="1666800" cy="64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8120" y="228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其它同行的商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Other  trademarks in the sam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13336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99072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914400"/>
            <a:ext cx="2743200" cy="650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logo: Official ADT UK Security Company for Home and Business Security Services"/>
          <p:cNvPicPr/>
          <p:nvPr/>
        </p:nvPicPr>
        <p:blipFill>
          <a:blip r:embed="rId6"/>
          <a:stretch/>
        </p:blipFill>
        <p:spPr>
          <a:xfrm>
            <a:off x="1143000" y="2590920"/>
            <a:ext cx="838080" cy="614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Kaleidescape Logotype"/>
          <p:cNvPicPr/>
          <p:nvPr/>
        </p:nvPicPr>
        <p:blipFill>
          <a:blip r:embed="rId7"/>
          <a:stretch/>
        </p:blipFill>
        <p:spPr>
          <a:xfrm>
            <a:off x="762120" y="1905120"/>
            <a:ext cx="1657080" cy="266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762280" cy="533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33480" y="32767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6981840" y="99072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6172200" y="5334120"/>
            <a:ext cx="2971800" cy="72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Numark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1752480"/>
            <a:ext cx="11048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Salzbrenner-Stagetec Mediagroup Logo"/>
          <p:cNvPicPr/>
          <p:nvPr/>
        </p:nvPicPr>
        <p:blipFill>
          <a:blip r:embed="rId15"/>
          <a:stretch/>
        </p:blipFill>
        <p:spPr>
          <a:xfrm>
            <a:off x="7315200" y="3657600"/>
            <a:ext cx="1285920" cy="1038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PROMATRIX SYSTEM"/>
          <p:cNvPicPr/>
          <p:nvPr/>
        </p:nvPicPr>
        <p:blipFill>
          <a:blip r:embed="rId16"/>
          <a:stretch/>
        </p:blipFill>
        <p:spPr>
          <a:xfrm>
            <a:off x="76320" y="4218120"/>
            <a:ext cx="5943600" cy="2563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Bogen Logo"/>
          <p:cNvPicPr/>
          <p:nvPr/>
        </p:nvPicPr>
        <p:blipFill>
          <a:blip r:embed="rId17"/>
          <a:stretch/>
        </p:blipFill>
        <p:spPr>
          <a:xfrm>
            <a:off x="2819520" y="2743200"/>
            <a:ext cx="4038480" cy="107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228600"/>
            <a:ext cx="40384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其它同行的商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Other  trademarks in the sam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523880" cy="1338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80988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e Security Pro"/>
          <p:cNvPicPr/>
          <p:nvPr/>
        </p:nvPicPr>
        <p:blipFill>
          <a:blip r:embed="rId3"/>
          <a:stretch/>
        </p:blipFill>
        <p:spPr>
          <a:xfrm>
            <a:off x="838080" y="2286000"/>
            <a:ext cx="1990800" cy="561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TOA Corpora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259092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Visat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390840"/>
            <a:ext cx="1581120" cy="34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Vieta Professional Sound System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3657600"/>
            <a:ext cx="140004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19720"/>
            <a:ext cx="137160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6629400" y="4495680"/>
            <a:ext cx="1428840" cy="800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762120" y="533412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685800" y="4343400"/>
            <a:ext cx="1666800" cy="60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Superscope: Make Great Music"/>
          <p:cNvPicPr/>
          <p:nvPr/>
        </p:nvPicPr>
        <p:blipFill>
          <a:blip r:embed="rId15"/>
          <a:stretch/>
        </p:blipFill>
        <p:spPr>
          <a:xfrm>
            <a:off x="3429000" y="5638680"/>
            <a:ext cx="5095800" cy="628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8120" y="228600"/>
            <a:ext cx="4876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其它同行的商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Other  trademarks in the sam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343400" cy="292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4343400" cy="292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3462480"/>
            <a:ext cx="4343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D</cp:lastModifiedBy>
  <dcterms:modified xsi:type="dcterms:W3CDTF">2013-02-16T07:24:5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